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CF4-81BD-455A-A0DD-E5B7B6AF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886-307C-4713-BE52-672A606F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2B5-FAE8-4F94-B52E-D6494736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B15-9A34-42B6-B509-F791655E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E5F-AA97-4712-9CB4-920B25A5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DBB-30A1-429F-85EA-CE0D31E0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5F6-DDEB-42B4-AC9B-D4D2633B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74E-F75B-4F09-9B09-279387F8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770-6B36-48FA-9DCB-4E071EF7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585-819C-43F3-A234-D24FD11A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5BC-D242-4B2F-97BB-057DBA14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D62-296C-439E-8E0D-1DC9926E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3D50-244A-495D-8636-80013C2E047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Rural Depopul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Voluntary 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luntary Mi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ost common example of voluntary migration is the movement of people from rural areas to urban area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is called rural to urban migration and occurs in every country in the world, as they become more urbanised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ED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EDC's the massive movement of people from rural areas to the cities has occurred for many rea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has caused rural areas to become depopulated and has led to the decline of services in these rural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gs like village shops and post offices have often found that they do not have enough customers to allow them to remain op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Origin: Push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w job opportunities in the rural are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w friends left as many have already moved to the citi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w entertainment or leisure activities availab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w wages in agricultural wor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ten difficult to get out to see friends and go to social eve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stination: Pull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Calibri"/>
              </a:rPr>
              <a:t>Many job opportunit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hance to meet up with friends agai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ore leisure and entertainment opportunit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Better shops and services, offering a wide range of good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prospect of higher paid work, meaning a better standard of living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Easily accessible to friends, social events and work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mmuter Vill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EDC's a counter movement has begun to occur however, with people moving out to the countryside to get away from the pollution and congestion of the c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often than not they work in the urban areas though, commuting in every mo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has led to rural villages changing from farming communities to commuter villages, which are also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rmitory villa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ED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LEDC's the movement to urban areas is even greater than in MEDC'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move to the cities because they believe that they will be more able to get employment and have a better way of lif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sometimes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"the bright lights syndrome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this is not always the case as they often end up living in shanty towns and finding occasional, poorly paid 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pite this the in-migration continues rapid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4:46:19Z</dcterms:created>
  <dc:creator>Dell_02</dc:creator>
  <dc:description/>
  <dc:language>en-US</dc:language>
  <cp:lastModifiedBy>Dell_02</cp:lastModifiedBy>
  <dcterms:modified xsi:type="dcterms:W3CDTF">2011-01-25T04:54:41Z</dcterms:modified>
  <cp:revision>1</cp:revision>
  <dc:subject/>
  <dc:title>Rural Depopulation</dc:title>
</cp:coreProperties>
</file>